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39F-DF54-43E0-9CAA-F488AAC8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D81-B1E4-42E5-AD38-47673D3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F1F-E25A-4B1E-A3ED-29B9C7B8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BE3-8C20-40D7-9C32-03184804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AB4-84EA-4C3D-A6D7-12F12599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EF07-F68E-473A-A01C-7A39385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593-EA5D-4B77-A145-E81512D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D9C-3D79-4156-B9BB-28DB2A0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8742-D8C5-4EC4-8B30-EEF1C71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A53-58EB-4E3A-9A41-28A9320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951-7D7B-4D3D-89F2-461E045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5D0-1415-4622-BF8C-4149D2E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401-8333-48D6-B8F5-2DEB5EE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8148-B9C9-4F46-91F2-8E5774B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AFF-079E-415E-B964-15F9EA2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8F14-A2C2-443C-9AC1-A687EAEB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404-3C4C-477B-92E4-60E3B19A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CA0-E15D-4721-9945-0C7B25F7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B4A-875C-4B6F-B790-906E5EE2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3B7-45FC-4545-A684-AB976F7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58D-774E-4651-BDA8-3203C0F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667-F1E6-48DE-B20D-3E721A5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571-2060-49D8-8F22-9CF89F3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C98-690E-4CC4-BAE4-FFFCAC0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555-5781-44A8-A99B-ACF2900E8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3716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457200" y="1812600"/>
            <a:ext cx="8511840" cy="91800"/>
            <a:chOff x="457200" y="1812600"/>
            <a:chExt cx="8511840" cy="91800"/>
          </a:xfrm>
        </p:grpSpPr>
        <p:sp>
          <p:nvSpPr>
            <p:cNvPr id="7" name="Rectangle 9"/>
            <p:cNvSpPr/>
            <p:nvPr/>
          </p:nvSpPr>
          <p:spPr>
            <a:xfrm flipV="1">
              <a:off x="45720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>
              <a:off x="2198520" y="181224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875040" y="181224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>
              <a:off x="5551200" y="181224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>
              <a:off x="722772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457200" y="1828440"/>
            <a:ext cx="8511840" cy="91800"/>
            <a:chOff x="457200" y="1828440"/>
            <a:chExt cx="8511840" cy="91800"/>
          </a:xfrm>
        </p:grpSpPr>
        <p:sp>
          <p:nvSpPr>
            <p:cNvPr id="13" name="Rectangle 15"/>
            <p:cNvSpPr/>
            <p:nvPr/>
          </p:nvSpPr>
          <p:spPr>
            <a:xfrm flipV="1">
              <a:off x="45720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>
              <a:off x="2198520" y="182808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>
              <a:off x="3875040" y="182808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>
              <a:off x="5551200" y="182808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flipV="1">
              <a:off x="722772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9810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316080" y="3260520"/>
            <a:ext cx="8511840" cy="91800"/>
            <a:chOff x="316080" y="3260520"/>
            <a:chExt cx="8511840" cy="91800"/>
          </a:xfrm>
        </p:grpSpPr>
        <p:sp>
          <p:nvSpPr>
            <p:cNvPr id="56" name="Rectangle 9"/>
            <p:cNvSpPr/>
            <p:nvPr/>
          </p:nvSpPr>
          <p:spPr>
            <a:xfrm flipV="1">
              <a:off x="31608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2057400" y="326016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733920" y="326016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flipV="1">
              <a:off x="5410080" y="326016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 flipV="1">
              <a:off x="708660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49B-FB2E-47AA-91DF-8A00F0CE775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91440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hristiansburg High Scho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944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“</a:t>
            </a: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D-E-T-E-R-M-I-N-E-D”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Plan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tablish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is our action plan: 1/11/07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33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hare the self-determination program with the entire special ed department at CHS through an information seminar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gin working on a “DETERMINED” student portfolio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gin working on a transition IEP curriculum to be taught within our resource classe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cogniz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are the barriers we may face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Tim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tivating students to learn and to be involved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Educational” languag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flicting teacher demand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fidentiality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8" name="Picture 4" descr="j0283075"/>
          <p:cNvPicPr/>
          <p:nvPr/>
        </p:nvPicPr>
        <p:blipFill>
          <a:blip r:embed="rId1"/>
          <a:stretch/>
        </p:blipFill>
        <p:spPr>
          <a:xfrm rot="21187800">
            <a:off x="6324120" y="1752120"/>
            <a:ext cx="119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ak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timeline for our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hoose students by January 11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nd teach unit by the end of the semester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udents will send invitations and develop their Power Point before their IEP meetings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31" name="Picture 4" descr="j0236529"/>
          <p:cNvPicPr/>
          <p:nvPr/>
        </p:nvPicPr>
        <p:blipFill>
          <a:blip r:embed="rId1"/>
          <a:stretch/>
        </p:blipFill>
        <p:spPr>
          <a:xfrm rot="20423400">
            <a:off x="6400800" y="4952520"/>
            <a:ext cx="167652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dentify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at have we learned from our participation?)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Importance of county-wide plan for transitioning students from elementary to middle and high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tter understanding of resourc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haring of ideas &amp; strategies through networking with other colleagues and profession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te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have we accomplished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etting up student-led /portfolio notebook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udents increasing their participation in IEP meeting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Increase in students in related activities (presenting at conferences, college bound, students leading tours for upcoming 8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graders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ork toward a county-wide approach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valuate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do we still need to do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esent at collaboration conference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et up notebooks for all (June 19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lesson plans and resource curriculum (June 20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-22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tinue to assist students in related activiti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 CHS social club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n evening for parent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How do we celebrate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re food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re conferenc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eet in fun loca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ipends for summer work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termin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21337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By June of 2007, the “Allstars” will implement student-led IEPs (2 students per caseload) as measured by students developing invitations, performing introductions and discussing strengths and weaknesses in the IEP meeting. 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6" name="Picture 4" descr="j0283248"/>
          <p:cNvPicPr/>
          <p:nvPr/>
        </p:nvPicPr>
        <p:blipFill>
          <a:blip r:embed="rId1"/>
          <a:stretch/>
        </p:blipFill>
        <p:spPr>
          <a:xfrm rot="21058800">
            <a:off x="317520" y="5239800"/>
            <a:ext cx="182880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aluat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do we already know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We thought kids knew: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omething about their disability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ho their case manager is and their rol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he IEP and the IEP proces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mic Sans MS"/>
              </a:rPr>
              <a:t>They don’t!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9" name="Picture 4" descr="j0288870"/>
          <p:cNvPicPr/>
          <p:nvPr/>
        </p:nvPicPr>
        <p:blipFill>
          <a:blip r:embed="rId1"/>
          <a:stretch/>
        </p:blipFill>
        <p:spPr>
          <a:xfrm rot="21062400">
            <a:off x="6553080" y="3886200"/>
            <a:ext cx="1339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valuate</a:t>
            </a:r>
            <a:br>
              <a:rPr sz="4400"/>
            </a:b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(What do we already know: 1/11/07)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Journaling and frequent reminders help students stay focused on go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think they participate; teachers want to increase the </a:t>
            </a:r>
            <a:r>
              <a:rPr b="0" i="1" lang="en-US" sz="3200" spc="-1" strike="noStrike">
                <a:solidFill>
                  <a:srgbClr val="5f5f5f"/>
                </a:solidFill>
                <a:latin typeface="Comic Sans MS"/>
              </a:rPr>
              <a:t>level</a:t>
            </a: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 of participation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don’t know/have input on go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do we know, cont’d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should have a pre-IEP phone meeting with parent for their input (we have been interviewing students)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Children can’t describe their disability, how it affects them, and what accommodations they need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need to use Fridays for: portfolios, transition, self-advocacy, IEP info. 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do we know cont’d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need to use more role-playing to practice advocacy skil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here is a big discrepancy between students’/teachers’/parents’ perceptions of the ability to describe disability, preparation for life, self-care, and advocacy after high school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hink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How do we measure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By June, 2007, we will develop and record on a spreadsheet the following student-assisted components: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Invita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Introdu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Discuss strength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Discuss weakness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8" name="Picture 4" descr="j0282846"/>
          <p:cNvPicPr/>
          <p:nvPr/>
        </p:nvPicPr>
        <p:blipFill>
          <a:blip r:embed="rId1"/>
          <a:stretch/>
        </p:blipFill>
        <p:spPr>
          <a:xfrm>
            <a:off x="5257800" y="334800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stablish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action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Each teacher will develop lesson plan(s) of instruction about IEP awareness and process to use with students or a small clas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eachers will provide direct instruction about the IEP process to student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1" name="Picture 4" descr="j0283246"/>
          <p:cNvPicPr/>
          <p:nvPr/>
        </p:nvPicPr>
        <p:blipFill>
          <a:blip r:embed="rId1"/>
          <a:stretch/>
        </p:blipFill>
        <p:spPr>
          <a:xfrm rot="20693400">
            <a:off x="7345440" y="0"/>
            <a:ext cx="1165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Action plan, continued…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eachers will give students and parents the self-determination checklist and complete the educator’s assessment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will prepare invitations and a Power Point presentation introducing IEP team members and indicating their strengths and weaknesse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6:00:36Z</dcterms:created>
  <dc:creator>kesherida</dc:creator>
  <dc:description/>
  <dc:language>en-US</dc:language>
  <cp:lastModifiedBy>owner</cp:lastModifiedBy>
  <dcterms:modified xsi:type="dcterms:W3CDTF">2013-01-16T18:18:28Z</dcterms:modified>
  <cp:revision>21</cp:revision>
  <dc:subject/>
  <dc:title>Christiansburg High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